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028-648F-4CB4-92D7-17354B27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28F-A8DB-4D95-95D5-474A2C0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30D-9664-4E2F-BF83-69C43D3B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D2E-88BC-4B63-A14E-7B698C58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6528-0FFA-4414-8122-59DB3174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E419-0E38-4CAD-AC39-66485B6D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CC0-382F-4876-9EF3-3A8AB142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FD74-550E-49B4-87EC-CDCF6C46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0D9-71AE-4520-AF80-DBEDFC7B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27180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8554-00EE-4E0D-B8FD-6E880798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71F1-5EE0-4D7C-AB5C-FD854A0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B42-66A3-4001-BEFA-44E7FCF4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0055-32D8-441B-8B2D-C76C909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43D9-F832-44A9-937D-E72A79F1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E9BD-A339-4736-BFB8-7262C2E5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179-7AC4-499C-8DED-BE7EDA50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487B-122B-4FCC-B7B8-5021386D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B1A-C217-42F4-BC3A-D4D1C171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307-336A-4659-8487-3F060A02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8AB-B357-45D9-94A3-FC1AB9AF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43000" y="27180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699-419F-4CEF-AA96-9D8596A1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F09-3FB3-4D99-A689-8196B4F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577-A5E8-4E92-A9A4-7925861F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EAA-3804-476A-8444-62819B8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1027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1028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29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031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032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33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34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035"/>
          <p:cNvSpPr/>
          <p:nvPr/>
        </p:nvSpPr>
        <p:spPr>
          <a:xfrm flipH="1">
            <a:off x="546840" y="9144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" name="Group 1040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1" name="AutoShape 1041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042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AutoShape 1043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AutoShape 1044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045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046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7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8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9B47-4890-4E0D-A4A5-BAEA449EDA4A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3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 flipH="1">
            <a:off x="546840" y="9144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3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71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318-17BB-4439-8DBC-D82D39F4B5C2}" type="slidenum">
              <a:rPr b="0" lang="da-D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24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cffff"/>
                </a:solidFill>
                <a:latin typeface="Tahoma"/>
              </a:rPr>
              <a:t>Excep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219320" y="1447920"/>
            <a:ext cx="7696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When an error occurs during execution of a JAVA program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 flag will be raised 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or in java-speak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ahoma"/>
              </a:rPr>
              <a:t>an exception is th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 number of standard-exceptions are defined in 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When an exception is thrown we have 3 op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void handling the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Handle it, where it occ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Handle it somwhere else in the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Input/Output     -   I/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43000" y="1295280"/>
            <a:ext cx="7893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We can now read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har’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using 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s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objektet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. If we on the other hand wants to read a whole line, we need some 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buffer-kapacity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o create a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fferedReader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-object :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fferedReader in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new BufferedReader(is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ow we have access to read() and readLine()-method’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String answer=in.readLin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Fil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219320" y="1523880"/>
            <a:ext cx="79246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 central issue for most programmers, is the ability to read and write from/to files on dis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We distinguish between 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binary file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(byte-data) and 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text-file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where characters are ordered in 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FileReader-class can be used for reading of text-files. But if you want to read whole lines (readLine()), you have to use a buffered-reader together with the FileRea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tring filnavn=”test.txt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leReader fr=new FileReader(filnav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fferedReader infile=new BufferedReader(fr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Datastreams and fil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03480" y="1481040"/>
            <a:ext cx="73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le is a collection of data, placed in permanent storage (i.e. disk/CD/DVD tape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rder to create a new file, or overwrite an existing file, we create a data-stream between our java-program and the  fil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stem.ou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n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stem.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pu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2678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Writing a textFile (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not the complete code</a:t>
            </a: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3000" y="1447920"/>
            <a:ext cx="762012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e f  = new File("demo.txt");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PrintWriter outFile = new PrintWriter (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for (int line=1; line &lt;= 10; line++)  {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   for (int num=1; num &lt;= 10; num++)   {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          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value = (int) (Math.random() * 100);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outFile.print (value + "   ");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       }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       outFile.println ();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    }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outFile.clo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System.out.println (" The file: " + file+" is created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Reading a textF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43000" y="1197000"/>
            <a:ext cx="7696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public void readFile()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File file =new File("demo.tx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Scanner fileScan=null, lineScan=nul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String line; int sum=0, lNr=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try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fileScan =new Scanner(fil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} catch (FileNotFoundException e)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e.printStackTrac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ffff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while (fileScan.hasNextLine()){ </a:t>
            </a:r>
            <a:r>
              <a:rPr b="0" lang="da-DK" sz="1800" spc="-1" strike="noStrike">
                <a:solidFill>
                  <a:srgbClr val="33ff99"/>
                </a:solidFill>
                <a:latin typeface="Tahoma"/>
              </a:rPr>
              <a:t>//For each line in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line= fileScan.next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lineScan =new Scanner(lin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sum=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while (lineScan.hasNext()) 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33ff99"/>
                </a:solidFill>
                <a:latin typeface="Tahoma"/>
              </a:rPr>
              <a:t>//For each number on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sum+=Integer.parseInt(lineScan .next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System.out.println("Line nr. "+ ++lNr +"\t"+su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fileScan.clos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cc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Serializa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109520" y="1336680"/>
            <a:ext cx="80344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ff99"/>
                </a:solidFill>
                <a:latin typeface="Tahoma"/>
              </a:rPr>
              <a:t>Objects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might be written to a file through an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bjectOutputStream</a:t>
            </a: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Reading of </a:t>
            </a:r>
            <a:r>
              <a:rPr b="1" lang="en-US" sz="2000" spc="-1" strike="noStrike">
                <a:solidFill>
                  <a:srgbClr val="33ff99"/>
                </a:solidFill>
                <a:latin typeface="Tahoma"/>
              </a:rPr>
              <a:t>objects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are done through a</a:t>
            </a: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bjectInputStream</a:t>
            </a: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Only objects, implementing the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rializable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-interface c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be serializ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rializable-interface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has no method’s, so all you need in order to have your objects saved on file, is to wr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ff"/>
                </a:solidFill>
                <a:latin typeface="Tahoma"/>
              </a:rPr>
              <a:t>implements serializable 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in the class-declar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ublic class Node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mplements serializabl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Serializa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143000" y="1592280"/>
            <a:ext cx="7696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ahoma"/>
              </a:rPr>
              <a:t>public void serialize(Object o, String fileName) throws Exception</a:t>
            </a:r>
            <a:br>
              <a:rPr sz="2000"/>
            </a:br>
            <a:r>
              <a:rPr b="1" lang="da-DK" sz="2000" spc="-1" strike="noStrike">
                <a:solidFill>
                  <a:srgbClr val="cc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FileOutputStream file = new FileOutputStream(file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ObjectOutputStream out= new ObjectOutputStream(fil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out.writeObject(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1800" spc="-1" strike="noStrike">
                <a:solidFill>
                  <a:srgbClr val="ccffff"/>
                </a:solidFill>
                <a:latin typeface="Tahoma"/>
              </a:rPr>
              <a:t>out.clos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53880"/>
                <a:tab algn="l" pos="717480"/>
                <a:tab algn="l" pos="10717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Serialization (try catch NOT shown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1592280"/>
            <a:ext cx="7696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public Object load( File f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   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ObjectInputStream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 in=</a:t>
            </a:r>
            <a:br>
              <a:rPr sz="2400"/>
            </a:b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new 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ObjectInputStream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(new </a:t>
            </a:r>
            <a:br>
              <a:rPr sz="2400"/>
            </a:b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FileInputStream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(f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Object obj=in.readObject(obj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in.clo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return obj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124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cffff"/>
                </a:solidFill>
                <a:latin typeface="Tahoma"/>
              </a:rPr>
              <a:t>Excep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219320" y="13716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f we don’t handle the exception the program will terminate with an errormess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676520" y="2514600"/>
            <a:ext cx="6629400" cy="3460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74640"/>
                <a:tab algn="l" pos="1349280"/>
                <a:tab algn="l" pos="202392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public class TestException {</a:t>
            </a: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public static void main(String[] args) {</a:t>
            </a: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System.out.println(10/0);</a:t>
            </a: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}</a:t>
            </a: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5.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74640"/>
                <a:tab algn="l" pos="1349280"/>
                <a:tab algn="l" pos="202392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Exception in thread "main" </a:t>
            </a: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java.lang.ArithmeticException: </a:t>
            </a:r>
            <a:r>
              <a:rPr b="1" lang="da-DK" sz="2000" spc="-1" strike="noStrike">
                <a:solidFill>
                  <a:srgbClr val="99ffcc"/>
                </a:solidFill>
                <a:latin typeface="Tahoma"/>
              </a:rPr>
              <a:t>/ by zero</a:t>
            </a: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  </a:t>
            </a:r>
            <a:br>
              <a:rPr sz="2000"/>
            </a:br>
            <a:r>
              <a:rPr b="0" lang="da-DK" sz="2000" spc="-1" strike="noStrike">
                <a:solidFill>
                  <a:srgbClr val="ffff00"/>
                </a:solidFill>
                <a:latin typeface="Tahoma"/>
              </a:rPr>
              <a:t>at TestException.main(TestException.java: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74640"/>
                <a:tab algn="l" pos="1349280"/>
                <a:tab algn="l" pos="202392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Excep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295280" y="1905120"/>
            <a:ext cx="6858000" cy="468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public class TestException {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public static void main(String[] args) {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99ffcc"/>
                </a:solidFill>
                <a:latin typeface="Tahoma"/>
              </a:rPr>
              <a:t>try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{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System.out.println(10/0);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}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99ffcc"/>
                </a:solidFill>
                <a:latin typeface="Tahoma"/>
              </a:rPr>
              <a:t>catch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 (ArithmeticException  e)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{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System.out.println("Ups !! " + e);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}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}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// </a:t>
            </a:r>
            <a:r>
              <a:rPr b="1" lang="da-DK" sz="2000" spc="-1" strike="noStrike">
                <a:solidFill>
                  <a:srgbClr val="ccffff"/>
                </a:solidFill>
                <a:latin typeface="Tahoma"/>
              </a:rPr>
              <a:t>Ups !! java.lang.ArithmeticException: / by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1400" y="117648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et’s handle it (here and now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Excep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295280" y="1371600"/>
            <a:ext cx="7391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fter a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y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-block follows one or mor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-block’s, each handling one kind of ex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fter the catch-block’s, there might come a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nally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-blo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nally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-block will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be executed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Excep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143000" y="1295280"/>
            <a:ext cx="7620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String kode=”TRV2475A5R-14”;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try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{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char zone=kode.charAt(9)     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// ’R’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int distrikt=Integer.parseInt(kode.substring(3,7))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// 2475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catch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a-DK" sz="2000" spc="-1" strike="noStrike">
                <a:solidFill>
                  <a:srgbClr val="ccffff"/>
                </a:solidFill>
                <a:latin typeface="Tahoma"/>
              </a:rPr>
              <a:t>( StringIndexOutOfBoundsException  exep )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{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System.out.println(” Illigal code-length: ”+kode);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catch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a-DK" sz="2000" spc="-1" strike="noStrike">
                <a:solidFill>
                  <a:srgbClr val="ccffff"/>
                </a:solidFill>
                <a:latin typeface="Tahoma"/>
              </a:rPr>
              <a:t>( NumberFormatException exep )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{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System.out.println(” Error in district-code”);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2000"/>
            </a:b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finally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{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System.out.println(”finished”);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Excep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129528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You define your ows exception-classes by extending the Exception-class ( or one of it’s sub-classes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There are two flavor’s of exceptio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hecked exceptions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Unchecked exceptions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Checked exceptions must be  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tch’ed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or they should be listed in a 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throws-clause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. (see the following I/O examp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Input/Output     -   I/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219320" y="16002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ll JAVA I/O are done through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tream’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. A Stream is a sequence of either byte’s (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Byte-stream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) or of chars (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Character-stream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Depending of the direction of the stream, we distinguish between 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input stream’s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nd </a:t>
            </a:r>
            <a:r>
              <a:rPr b="1" lang="en-US" sz="2400" spc="-1" strike="noStrike">
                <a:solidFill>
                  <a:srgbClr val="ccffff"/>
                </a:solidFill>
                <a:latin typeface="Tahoma"/>
              </a:rPr>
              <a:t>output stream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95280" y="4191120"/>
          <a:ext cx="7467840" cy="1574640"/>
        </p:xfrm>
        <a:graphic>
          <a:graphicData uri="http://schemas.openxmlformats.org/drawingml/2006/table">
            <a:tbl>
              <a:tblPr/>
              <a:tblGrid>
                <a:gridCol w="2408400"/>
                <a:gridCol w="2468520"/>
                <a:gridCol w="259092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6d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6d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6d9a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te’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6d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nputStr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utputStr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cter’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6d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ri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Input/Output     -   I/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219320" y="1523880"/>
            <a:ext cx="76197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JAVA’s I/O classes might also be divided in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a-stream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connecting a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ourc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with a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stination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lter-stream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whish in some way manipulates the data in a strea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Through combining data-streams with one or more  filter-streams, we can create an input- or output-stream, with almost any property we might w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Dealing with I/O has a lot of possibilities for errors. This might lead to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OException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or sub-classes of th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ccffff"/>
                </a:solidFill>
                <a:latin typeface="Tahoma"/>
              </a:rPr>
              <a:t>Input/Output     -   I/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19320" y="1600200"/>
            <a:ext cx="76197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Standard I/O stream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4720">
              <a:lnSpc>
                <a:spcPct val="100000"/>
              </a:lnSpc>
              <a:spcBef>
                <a:spcPts val="1500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System.in    - 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Inpu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4720">
              <a:lnSpc>
                <a:spcPct val="100000"/>
              </a:lnSpc>
              <a:spcBef>
                <a:spcPts val="1500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System.out  -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Prin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4720">
              <a:lnSpc>
                <a:spcPct val="100000"/>
              </a:lnSpc>
              <a:spcBef>
                <a:spcPts val="1500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System.err   - 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PrintStream</a:t>
            </a: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2920" y="3962520"/>
            <a:ext cx="7796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Through </a:t>
            </a:r>
            <a:r>
              <a:rPr b="0" lang="da-DK" sz="2400" spc="-1" strike="noStrike">
                <a:solidFill>
                  <a:srgbClr val="ffff00"/>
                </a:solidFill>
                <a:latin typeface="Tahoma"/>
              </a:rPr>
              <a:t>System.in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we can read </a:t>
            </a:r>
            <a:r>
              <a:rPr b="0" lang="da-DK" sz="2400" spc="-1" strike="noStrike">
                <a:solidFill>
                  <a:srgbClr val="ffff00"/>
                </a:solidFill>
                <a:latin typeface="Tahoma"/>
              </a:rPr>
              <a:t>byte’s</a:t>
            </a: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. This is not very convenient. When dealing with the keyBoard we want to read 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hars</a:t>
            </a:r>
            <a:r>
              <a:rPr b="1" lang="da-DK" sz="24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For that purpose, create an InputStreamReader-object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ccffff"/>
                </a:solidFill>
                <a:latin typeface="Tahoma"/>
              </a:rPr>
              <a:t>     </a:t>
            </a: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sr=new InputStreamReader(System.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6:40:16Z</dcterms:created>
  <dc:creator>Niels Rønne</dc:creator>
  <dc:description/>
  <dc:language>en-US</dc:language>
  <cp:lastModifiedBy>nir</cp:lastModifiedBy>
  <dcterms:modified xsi:type="dcterms:W3CDTF">2011-10-01T18:00:24Z</dcterms:modified>
  <cp:revision>13</cp:revision>
  <dc:subject>Prg</dc:subject>
  <dc:title>Excep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Teaching Date">
    <vt:lpwstr>2008-10-24T00:00:00Z</vt:lpwstr>
  </property>
  <property fmtid="{D5CDD505-2E9C-101B-9397-08002B2CF9AE}" pid="4" name="Tema">
    <vt:lpwstr>;#Exceptions;#</vt:lpwstr>
  </property>
</Properties>
</file>