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F42E-815A-4C19-84D1-AB34BD4EAE72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C8D0-C638-440B-8588-9B01D12295B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6DC9-6FF7-4C94-BAC2-7E98DD29215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C8B6-C600-4BAB-9247-B6AD4CBA5A6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3837-D576-4BD5-ABFB-2A8C8D0ED55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D5B7-0079-400C-B6D0-C93BC942218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DF0C-8C2C-48D0-A90E-0D4F3B1E426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F090-B8B0-4E7F-BA87-78812AA2B30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A75-4708-4519-B95B-9FDD21D1D10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8CB6-6B38-4DDA-95F3-11C1F7E1D60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EC22-FB82-4080-87C5-01330342942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AEB9-D049-4B0F-8EA4-8BBCCED8AC2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6D1-A4CC-4EF2-B328-41D9A294A58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77AB-8E03-468E-A139-CBE930185EA4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</a:rPr>
              <a:t>Milepæl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efter hver fase, hvor dokumentation er i en på forhånd aftalt til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kumentation er </a:t>
            </a:r>
            <a:r>
              <a:rPr b="1" lang="da-DK" sz="1200" spc="-1" strike="noStrike">
                <a:solidFill>
                  <a:srgbClr val="000000"/>
                </a:solidFill>
                <a:latin typeface="Arial"/>
              </a:rPr>
              <a:t>modeller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(tegne- og sproglige) og beskrivel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aserne består af </a:t>
            </a:r>
            <a:r>
              <a:rPr b="1" lang="da-DK" sz="1200" spc="-1" strike="noStrike">
                <a:solidFill>
                  <a:srgbClr val="000000"/>
                </a:solidFill>
                <a:latin typeface="Arial"/>
              </a:rPr>
              <a:t>iter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aserne har </a:t>
            </a:r>
            <a:r>
              <a:rPr b="1" lang="da-DK" sz="1200" spc="-1" strike="noStrike">
                <a:solidFill>
                  <a:srgbClr val="000000"/>
                </a:solidFill>
                <a:latin typeface="Arial"/>
              </a:rPr>
              <a:t>forskelligt fokus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(se sen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443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34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443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734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NORD_logo"/>
          <p:cNvPicPr/>
          <p:nvPr/>
        </p:nvPicPr>
        <p:blipFill>
          <a:blip r:embed="rId2"/>
          <a:stretch/>
        </p:blipFill>
        <p:spPr>
          <a:xfrm>
            <a:off x="7701120" y="109440"/>
            <a:ext cx="1242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NORD_ppt_back"/>
          <p:cNvPicPr/>
          <p:nvPr/>
        </p:nvPicPr>
        <p:blipFill>
          <a:blip r:embed="rId2"/>
          <a:stretch/>
        </p:blipFill>
        <p:spPr>
          <a:xfrm>
            <a:off x="-3816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NORD_logo_neg_erhverv_handels"/>
          <p:cNvPicPr/>
          <p:nvPr/>
        </p:nvPicPr>
        <p:blipFill>
          <a:blip r:embed="rId3"/>
          <a:stretch/>
        </p:blipFill>
        <p:spPr>
          <a:xfrm>
            <a:off x="5364000" y="109440"/>
            <a:ext cx="3543480" cy="73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774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 to systems develop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32000" y="376344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st s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What is OO modell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We conceive systems as objects which cooperate to solve tas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Object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Crabs, Lobsters, Worms, Dices, Persons, Books, Accounts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Objects can do something (behaviour/ method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A Crab can move, turn and e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An object has a state/ remembers (properties/ attribut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A Crab has eaten an amount of worms, has a dir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Objects has an ide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A reference or 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Objects are related/ knows other objects (relation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Calibri"/>
              </a:rPr>
              <a:t>A person has an account and a book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Benefits of OO modell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bjects are part of the way we conceive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 small semantic gap between reality a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ypically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811840" y="4437000"/>
            <a:ext cx="142416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terning_fem"/>
          <p:cNvPicPr/>
          <p:nvPr/>
        </p:nvPicPr>
        <p:blipFill>
          <a:blip r:embed="rId1"/>
          <a:stretch/>
        </p:blipFill>
        <p:spPr>
          <a:xfrm>
            <a:off x="1547640" y="446400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35" name="Line 6"/>
          <p:cNvSpPr/>
          <p:nvPr/>
        </p:nvSpPr>
        <p:spPr>
          <a:xfrm>
            <a:off x="3564000" y="4437000"/>
            <a:ext cx="304560" cy="99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767120" y="4437000"/>
            <a:ext cx="381240" cy="99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780000" y="4554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5796000" y="51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800680" y="43657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5796000" y="4797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Benefits of OO modelling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t i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asier to understan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system as it resembles the 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t i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asier to crea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nd chang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As it ‘just’ has to resemble the real 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The traceability to the real world is ideally 1: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When the real world changes we know which part of the system to cha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We can break down the systems into relatively independent parts – and construct each part using a divide and conquer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Example of object oriented modelling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22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We are going to create a dic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does the dice game consist of? (O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do we play the dice game? (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do we structure the dice game? (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We realize the design (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Objects</a:t>
            </a:r>
            <a:br>
              <a:rPr sz="3800"/>
            </a:b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- concrete occur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1920" y="4676760"/>
            <a:ext cx="59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wo types of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bjects in the 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bjects in the computer also called insta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2176560" y="2832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2176560" y="3670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97080" y="23414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1: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395800" y="2849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ace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442960" y="3746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rol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124000" y="2879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2124000" y="2349360"/>
            <a:ext cx="2449440" cy="215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5302080" y="284004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302080" y="3678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32296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2: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521680" y="2857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aceValue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568480" y="3754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rol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5249880" y="2887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5249880" y="2357280"/>
            <a:ext cx="2449440" cy="215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Class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 blueprint/ abstraction over a group of object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The same proper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The same behavio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The same relations to other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141720" y="3933720"/>
            <a:ext cx="243828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678840" y="39607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443040" y="457056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ace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447720" y="556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rol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141720" y="54086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3141720" y="44942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UML mode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7768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Which models have we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will you classify the model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connection between the mod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51280" y="1628640"/>
          <a:ext cx="5040360" cy="4332600"/>
        </p:xfrm>
        <a:graphic>
          <a:graphicData uri="http://schemas.openxmlformats.org/drawingml/2006/table">
            <a:tbl>
              <a:tblPr/>
              <a:tblGrid>
                <a:gridCol w="852480"/>
                <a:gridCol w="2000160"/>
                <a:gridCol w="2187720"/>
              </a:tblGrid>
              <a:tr h="611280"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ML class diag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ase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C model and descrip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ML class diag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-dia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22"/>
          <p:cNvSpPr/>
          <p:nvPr/>
        </p:nvSpPr>
        <p:spPr>
          <a:xfrm rot="5400000">
            <a:off x="3621960" y="2521800"/>
            <a:ext cx="13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Re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ech ind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 rot="5400000">
            <a:off x="3746880" y="4371840"/>
            <a:ext cx="11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Tech d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Lige pilforbindelse 7"/>
          <p:cNvCxnSpPr/>
          <p:nvPr/>
        </p:nvCxnSpPr>
        <p:spPr>
          <a:xfrm flipH="1">
            <a:off x="6372000" y="3573000"/>
            <a:ext cx="2160" cy="648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Lige pilforbindelse 8"/>
          <p:cNvCxnSpPr/>
          <p:nvPr/>
        </p:nvCxnSpPr>
        <p:spPr>
          <a:xfrm flipH="1">
            <a:off x="8673840" y="3573000"/>
            <a:ext cx="2160" cy="648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7" name="Lige pilforbindelse 9"/>
          <p:cNvCxnSpPr/>
          <p:nvPr/>
        </p:nvCxnSpPr>
        <p:spPr>
          <a:xfrm>
            <a:off x="6372360" y="2421000"/>
            <a:ext cx="6465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8" name="Lige pilforbindelse 11"/>
          <p:cNvCxnSpPr/>
          <p:nvPr/>
        </p:nvCxnSpPr>
        <p:spPr>
          <a:xfrm>
            <a:off x="6443280" y="5732640"/>
            <a:ext cx="64692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The use of mode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ep wise introduction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est of different solution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eveloper – User /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eveloper – Develo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eveloper – other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is the program’s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does the program r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The benefit of using diferent mode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division between models and model types gives us the opportunit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Step wise introduction of complexity (requirements – desig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Focus at specific aspects of the system at a tim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(Structure vs. Proces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final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 realised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 through mod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Is documented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 through mod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Objec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eciate the need for a structured approach concerning bo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ces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stinguish between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types of mode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purposes of mode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 an overview of key steps in SW-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Calibri"/>
                <a:ea typeface="Calibri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is systems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An attempt to specify the discipl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is object oriented mod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are OO-models realised in J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Calibri"/>
              </a:rPr>
              <a:t>Modelling and programming a small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Modelling in system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Systems develop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for a systema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duct’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cess that creates th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47760" y="2025720"/>
            <a:ext cx="2928960" cy="1042920"/>
          </a:xfrm>
          <a:prstGeom prst="cloudCallout">
            <a:avLst>
              <a:gd name="adj1" fmla="val 10777"/>
              <a:gd name="adj2" fmla="val 63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Visions an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j0285750"/>
          <p:cNvPicPr/>
          <p:nvPr/>
        </p:nvPicPr>
        <p:blipFill>
          <a:blip r:embed="rId1"/>
          <a:stretch/>
        </p:blipFill>
        <p:spPr>
          <a:xfrm>
            <a:off x="6558120" y="1954080"/>
            <a:ext cx="2431800" cy="1187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635280" y="1994400"/>
            <a:ext cx="2592360" cy="119124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13" y="0"/>
                </a:lnTo>
                <a:lnTo>
                  <a:pt x="21600" y="10800"/>
                </a:lnTo>
                <a:lnTo>
                  <a:pt x="153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a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evelopm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The process</a:t>
            </a:r>
            <a:br>
              <a:rPr sz="3800"/>
            </a:b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- waterfall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57200" y="2135160"/>
            <a:ext cx="8229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The process</a:t>
            </a:r>
            <a:br>
              <a:rPr sz="3800"/>
            </a:b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da-DK" sz="3800" spc="-1" strike="noStrike">
                <a:solidFill>
                  <a:srgbClr val="000000"/>
                </a:solidFill>
                <a:latin typeface="Calibri"/>
                <a:ea typeface="Calibri"/>
              </a:rPr>
              <a:t>spiral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60640" y="1778040"/>
            <a:ext cx="6822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The process</a:t>
            </a:r>
            <a:br>
              <a:rPr sz="3800"/>
            </a:b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- Unified Proc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Basic princi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Use case driven – usag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Iterative and incremental – gradually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Risk driven – the hardest part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Architecture centred – get the structure lai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Calibri"/>
                <a:ea typeface="Calibri"/>
              </a:rPr>
              <a:t>The process</a:t>
            </a:r>
            <a:br>
              <a:rPr sz="3800"/>
            </a:br>
            <a:r>
              <a:rPr b="0" lang="da-DK" sz="3800" spc="-1" strike="noStrike">
                <a:solidFill>
                  <a:srgbClr val="000000"/>
                </a:solidFill>
                <a:latin typeface="Calibri"/>
                <a:ea typeface="Calibri"/>
              </a:rPr>
              <a:t>- UP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1776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611280" y="1844640"/>
            <a:ext cx="7924680" cy="4320720"/>
            <a:chOff x="611280" y="1844640"/>
            <a:chExt cx="7924680" cy="4320720"/>
          </a:xfrm>
        </p:grpSpPr>
        <p:grpSp>
          <p:nvGrpSpPr>
            <p:cNvPr id="107" name="Group 5"/>
            <p:cNvGrpSpPr/>
            <p:nvPr/>
          </p:nvGrpSpPr>
          <p:grpSpPr>
            <a:xfrm>
              <a:off x="611280" y="1844640"/>
              <a:ext cx="7920000" cy="717840"/>
              <a:chOff x="611280" y="1844640"/>
              <a:chExt cx="7920000" cy="717840"/>
            </a:xfrm>
          </p:grpSpPr>
          <p:pic>
            <p:nvPicPr>
              <p:cNvPr id="108" name="Picture 6" descr="Click on a button to see information on Iterations and phases.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44640"/>
                <a:ext cx="792000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7"/>
              <p:cNvSpPr/>
              <p:nvPr/>
            </p:nvSpPr>
            <p:spPr>
              <a:xfrm>
                <a:off x="2905200" y="1895040"/>
                <a:ext cx="54993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" name="Picture 8" descr="Click here for information about understanding and capturing business processes."/>
            <p:cNvPicPr/>
            <p:nvPr/>
          </p:nvPicPr>
          <p:blipFill>
            <a:blip r:embed="rId2"/>
            <a:stretch/>
          </p:blipFill>
          <p:spPr>
            <a:xfrm>
              <a:off x="611280" y="2562840"/>
              <a:ext cx="7920360" cy="2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Click here for information about understanding, capturing and managing user needs."/>
            <p:cNvPicPr/>
            <p:nvPr/>
          </p:nvPicPr>
          <p:blipFill>
            <a:blip r:embed="rId3"/>
            <a:stretch/>
          </p:blipFill>
          <p:spPr>
            <a:xfrm>
              <a:off x="611280" y="2823840"/>
              <a:ext cx="79203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Click here for information about transforming requirements into software designs."/>
            <p:cNvPicPr/>
            <p:nvPr/>
          </p:nvPicPr>
          <p:blipFill>
            <a:blip r:embed="rId4"/>
            <a:stretch/>
          </p:blipFill>
          <p:spPr>
            <a:xfrm>
              <a:off x="611280" y="3124800"/>
              <a:ext cx="792036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Click here for information about implementing software."/>
            <p:cNvPicPr/>
            <p:nvPr/>
          </p:nvPicPr>
          <p:blipFill>
            <a:blip r:embed="rId5"/>
            <a:stretch/>
          </p:blipFill>
          <p:spPr>
            <a:xfrm>
              <a:off x="611280" y="3463920"/>
              <a:ext cx="792036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Click here for information about testing applications."/>
            <p:cNvPicPr/>
            <p:nvPr/>
          </p:nvPicPr>
          <p:blipFill>
            <a:blip r:embed="rId6"/>
            <a:stretch/>
          </p:blipFill>
          <p:spPr>
            <a:xfrm>
              <a:off x="611280" y="3868200"/>
              <a:ext cx="792468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3" descr="Click here for information about deploying an application to its user community."/>
            <p:cNvPicPr/>
            <p:nvPr/>
          </p:nvPicPr>
          <p:blipFill>
            <a:blip r:embed="rId7"/>
            <a:stretch/>
          </p:blipFill>
          <p:spPr>
            <a:xfrm>
              <a:off x="611280" y="4076640"/>
              <a:ext cx="792468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4" descr="Click here for information about configuration and change management."/>
            <p:cNvPicPr/>
            <p:nvPr/>
          </p:nvPicPr>
          <p:blipFill>
            <a:blip r:embed="rId8"/>
            <a:stretch/>
          </p:blipFill>
          <p:spPr>
            <a:xfrm>
              <a:off x="611280" y="4312800"/>
              <a:ext cx="79203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Click here for information about managing risk, features, schedules and resources."/>
            <p:cNvPicPr/>
            <p:nvPr/>
          </p:nvPicPr>
          <p:blipFill>
            <a:blip r:embed="rId9"/>
            <a:stretch/>
          </p:blipFill>
          <p:spPr>
            <a:xfrm>
              <a:off x="611280" y="4860360"/>
              <a:ext cx="7924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6" descr="Click here for information about Process configuration."/>
            <p:cNvPicPr/>
            <p:nvPr/>
          </p:nvPicPr>
          <p:blipFill>
            <a:blip r:embed="rId10"/>
            <a:stretch/>
          </p:blipFill>
          <p:spPr>
            <a:xfrm>
              <a:off x="611280" y="5081400"/>
              <a:ext cx="7924680" cy="23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Group 17"/>
            <p:cNvGrpSpPr/>
            <p:nvPr/>
          </p:nvGrpSpPr>
          <p:grpSpPr>
            <a:xfrm>
              <a:off x="611280" y="5317200"/>
              <a:ext cx="7924320" cy="848160"/>
              <a:chOff x="611280" y="5317200"/>
              <a:chExt cx="7924320" cy="848160"/>
            </a:xfrm>
          </p:grpSpPr>
          <p:pic>
            <p:nvPicPr>
              <p:cNvPr id="120" name="Picture 18" descr="Click on a button to see information about iterations and representative iteration workflows."/>
              <p:cNvPicPr/>
              <p:nvPr/>
            </p:nvPicPr>
            <p:blipFill>
              <a:blip r:embed="rId11"/>
              <a:stretch/>
            </p:blipFill>
            <p:spPr>
              <a:xfrm>
                <a:off x="611280" y="5317200"/>
                <a:ext cx="792432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Rectangle 19"/>
              <p:cNvSpPr/>
              <p:nvPr/>
            </p:nvSpPr>
            <p:spPr>
              <a:xfrm>
                <a:off x="2969640" y="5447880"/>
                <a:ext cx="95796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3943080" y="5460120"/>
                <a:ext cx="149328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5452200" y="5433120"/>
                <a:ext cx="187128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4699080" y="5851800"/>
                <a:ext cx="14932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Text Box 23"/>
          <p:cNvSpPr/>
          <p:nvPr/>
        </p:nvSpPr>
        <p:spPr>
          <a:xfrm>
            <a:off x="711360" y="5600880"/>
            <a:ext cx="73152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1258920" y="219852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  <a:ea typeface="Calibri"/>
              </a:rPr>
              <a:t>The product</a:t>
            </a:r>
            <a:br>
              <a:rPr sz="38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-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22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Models are us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Calibri"/>
              </a:rPr>
              <a:t>Problem solv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Calibri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Calibri"/>
              </a:rPr>
              <a:t>Document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UP uses UML fo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Calibri"/>
              </a:rPr>
              <a:t>Unified Modelling Langu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Calibri"/>
              </a:rPr>
              <a:t>UML supports object oriented programm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6:02:43Z</dcterms:created>
  <dc:creator>Merete Lindemann</dc:creator>
  <dc:description/>
  <dc:language>en-US</dc:language>
  <cp:lastModifiedBy>Caroline Hundahl</cp:lastModifiedBy>
  <dcterms:modified xsi:type="dcterms:W3CDTF">2011-09-05T10:24:08Z</dcterms:modified>
  <cp:revision>81</cp:revision>
  <dc:subject/>
  <dc:title>Navneskift</dc:title>
</cp:coreProperties>
</file>