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45B3-D90D-44EA-89AC-316B98829138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8793-9399-42B8-95D8-A124DE8D10EA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0676-D3F5-4C50-9830-CD6DF27CE7DB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821F-8E1C-4B5A-8C3D-4A95D6F919A8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1062-FC89-4CCC-AA58-FFEEF7B647AB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BC78-1197-44BA-A3BF-54A1A65CE28E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CCCB-926A-43F3-8059-FA56B55C5E65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6224-AF35-417D-A765-965C48CD2B2B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Prøv at lave Glo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278B-30FD-4B0A-B110-0546224151CF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1B8F-5210-45F8-A15A-A6EFFE88C505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A6B6-30EA-4329-BF05-9EAE6EB6D096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4432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43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443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777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777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443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443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443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7768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34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7768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1443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1443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4432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14432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43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1443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777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7776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1443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1443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14432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77768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734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7768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443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4432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76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4432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NORD_logo"/>
          <p:cNvPicPr/>
          <p:nvPr/>
        </p:nvPicPr>
        <p:blipFill>
          <a:blip r:embed="rId2"/>
          <a:stretch/>
        </p:blipFill>
        <p:spPr>
          <a:xfrm>
            <a:off x="7701120" y="109440"/>
            <a:ext cx="124272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NORD_ppt_back"/>
          <p:cNvPicPr/>
          <p:nvPr/>
        </p:nvPicPr>
        <p:blipFill>
          <a:blip r:embed="rId2"/>
          <a:stretch/>
        </p:blipFill>
        <p:spPr>
          <a:xfrm>
            <a:off x="-3816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NORD_logo_neg_erhverv_handels"/>
          <p:cNvPicPr/>
          <p:nvPr/>
        </p:nvPicPr>
        <p:blipFill>
          <a:blip r:embed="rId3"/>
          <a:stretch/>
        </p:blipFill>
        <p:spPr>
          <a:xfrm>
            <a:off x="5364000" y="109440"/>
            <a:ext cx="3543480" cy="735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4774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Arial"/>
              </a:rPr>
              <a:t>Designklasse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32000" y="376344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Arial"/>
              </a:rPr>
              <a:t>1. s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Arial"/>
              </a:rPr>
              <a:t>c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dsholder til diasnumm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5918-1B36-4F48-832B-AFBA2640597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: Declaration of method with name, parameter list, return ty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bility name (parameter list): retur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CopyNumber() : 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BorrowPeriod(period : 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 can be both public    , private    and pro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" descr=""/>
          <p:cNvPicPr/>
          <p:nvPr/>
        </p:nvPicPr>
        <p:blipFill>
          <a:blip r:embed="rId1"/>
          <a:stretch/>
        </p:blipFill>
        <p:spPr>
          <a:xfrm>
            <a:off x="971640" y="3645000"/>
            <a:ext cx="360360" cy="295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"/>
          <p:cNvPicPr/>
          <p:nvPr/>
        </p:nvPicPr>
        <p:blipFill>
          <a:blip r:embed="rId2"/>
          <a:stretch/>
        </p:blipFill>
        <p:spPr>
          <a:xfrm>
            <a:off x="1042920" y="4149720"/>
            <a:ext cx="360360" cy="295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2" descr=""/>
          <p:cNvPicPr/>
          <p:nvPr/>
        </p:nvPicPr>
        <p:blipFill>
          <a:blip r:embed="rId3"/>
          <a:stretch/>
        </p:blipFill>
        <p:spPr>
          <a:xfrm>
            <a:off x="8244000" y="4724280"/>
            <a:ext cx="358560" cy="273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"/>
          <p:cNvPicPr/>
          <p:nvPr/>
        </p:nvPicPr>
        <p:blipFill>
          <a:blip r:embed="rId4"/>
          <a:stretch/>
        </p:blipFill>
        <p:spPr>
          <a:xfrm>
            <a:off x="3419640" y="5229360"/>
            <a:ext cx="287280" cy="239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1" descr=""/>
          <p:cNvPicPr/>
          <p:nvPr/>
        </p:nvPicPr>
        <p:blipFill>
          <a:blip r:embed="rId5"/>
          <a:stretch/>
        </p:blipFill>
        <p:spPr>
          <a:xfrm>
            <a:off x="6299280" y="4724280"/>
            <a:ext cx="360360" cy="295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"/>
          <p:cNvPicPr/>
          <p:nvPr/>
        </p:nvPicPr>
        <p:blipFill>
          <a:blip r:embed="rId6"/>
          <a:stretch/>
        </p:blipFill>
        <p:spPr>
          <a:xfrm>
            <a:off x="5940360" y="5084640"/>
            <a:ext cx="20383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dsholder til diasnumm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E143-E189-4BCE-8810-42412B46AC07}" type="slidenum">
              <a:rPr b="0" lang="da-DK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800" spc="-1" strike="noStrike">
                <a:solidFill>
                  <a:srgbClr val="000000"/>
                </a:solidFill>
                <a:latin typeface="Arial"/>
              </a:rPr>
              <a:t>Operations - varia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dicates invocation o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typically mapped to a constructor declar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&lt;constructor&gt;&gt; Reservation (numberInLine : 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ors and mut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t’ers and set’ers are often left out, due to ’noise’ vs. val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2" descr=""/>
          <p:cNvPicPr/>
          <p:nvPr/>
        </p:nvPicPr>
        <p:blipFill>
          <a:blip r:embed="rId1"/>
          <a:stretch/>
        </p:blipFill>
        <p:spPr>
          <a:xfrm>
            <a:off x="5292720" y="3068640"/>
            <a:ext cx="3524400" cy="1104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2"/>
          <a:stretch/>
        </p:blipFill>
        <p:spPr>
          <a:xfrm>
            <a:off x="5292720" y="4110120"/>
            <a:ext cx="3524400" cy="1190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292720" y="5300640"/>
            <a:ext cx="3524400" cy="1190520"/>
          </a:xfrm>
          <a:prstGeom prst="rect">
            <a:avLst/>
          </a:prstGeom>
          <a:ln w="0">
            <a:noFill/>
          </a:ln>
        </p:spPr>
      </p:pic>
      <p:sp>
        <p:nvSpPr>
          <p:cNvPr id="144" name="Pladsholder til diasnummer 4"/>
          <p:cNvSpPr/>
          <p:nvPr/>
        </p:nvSpPr>
        <p:spPr>
          <a:xfrm>
            <a:off x="6553080" y="6153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0694-A8B4-41FC-A442-E851489195B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8537400" y="3036960"/>
            <a:ext cx="81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Symbol"/>
                <a:ea typeface="Symbol"/>
              </a:rPr>
              <a:t>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8653680" y="5392800"/>
            <a:ext cx="53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Unicode MS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8669520" y="4044960"/>
            <a:ext cx="53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Unicode MS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777680"/>
            <a:ext cx="7427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man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ation from one object of a class to an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 an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multip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navigation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rol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association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dsholder til diasnumm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3955-A51D-4C43-B735-3900E40F3C04}" type="slidenum">
              <a:rPr b="0" lang="da-DK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8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s a temporary relation from one object of a class to an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eives an object reference as parame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a local variable which is an object referenc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cy is modeled wit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5580000" y="4869000"/>
            <a:ext cx="2016360" cy="0"/>
          </a:xfrm>
          <a:prstGeom prst="line">
            <a:avLst/>
          </a:prstGeom>
          <a:ln w="28440">
            <a:solidFill>
              <a:srgbClr val="808080"/>
            </a:solidFill>
            <a:prstDash val="lg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dsholder til dias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6805-4911-4560-BF88-646E97518AD1}" type="slidenum">
              <a:rPr b="0" lang="da-DK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w to 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ok book exists on how to do 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u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ntify nouns and noun phrases from descriptions of business as clas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sign responsibility to class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ieces” of functional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sign state and behavior to clas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tributes and metho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pare for a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iterativ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ppro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dsholder til dias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5014-5F4A-41CE-88C7-FBF3FE69B3BE}" type="slidenum">
              <a:rPr b="0" lang="da-DK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static structures in a program by a UML class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 between the specification and documentatio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CASE tool to create a UML class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t use case model and domai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lass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s with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igations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sign class diagram  - what is i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77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diagram like the domai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model with technology specific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tributes med data typ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hods wi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580000" y="3933720"/>
          <a:ext cx="3240000" cy="2727360"/>
        </p:xfrm>
        <a:graphic>
          <a:graphicData uri="http://schemas.openxmlformats.org/drawingml/2006/table">
            <a:tbl>
              <a:tblPr/>
              <a:tblGrid>
                <a:gridCol w="547920"/>
                <a:gridCol w="1287360"/>
                <a:gridCol w="1404720"/>
              </a:tblGrid>
              <a:tr h="671400">
                <a:tc>
                  <a:txBody>
                    <a:bodyPr lIns="182520" rIns="182520" tIns="92160" bIns="921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520" marR="182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520" rIns="182520" tIns="92160" bIns="92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c /structu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520" marR="18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520" rIns="182520" tIns="92160" bIns="92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na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520" marR="182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182520" rIns="182520" tIns="92160" bIns="921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520" marR="182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520" rIns="182520" tIns="92160" bIns="9216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520" marR="18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520" rIns="182520" tIns="92160" bIns="9216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520" marR="182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800">
                <a:tc>
                  <a:txBody>
                    <a:bodyPr lIns="182520" rIns="182520" tIns="92160" bIns="921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520" marR="1825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520" rIns="182520" tIns="92160" bIns="921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520" marR="182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2520" rIns="182520" tIns="92160" bIns="921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520" marR="1825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 Box 30"/>
          <p:cNvSpPr/>
          <p:nvPr/>
        </p:nvSpPr>
        <p:spPr>
          <a:xfrm rot="5400000">
            <a:off x="5325480" y="480492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R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Tech inde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1"/>
          <p:cNvSpPr/>
          <p:nvPr/>
        </p:nvSpPr>
        <p:spPr>
          <a:xfrm rot="5400000">
            <a:off x="5402520" y="5818320"/>
            <a:ext cx="98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Tech de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dsholder til diasnumm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5988-74D9-4AD0-9E8A-F024ED369D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rom conceptual level to desig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and analy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case model (dynamic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main model (DM) (static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sign class diagram (DCD) (static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quence diagram/communication diagram (dynamic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684360" y="4653000"/>
            <a:ext cx="502920" cy="0"/>
          </a:xfrm>
          <a:prstGeom prst="line">
            <a:avLst/>
          </a:prstGeom>
          <a:ln w="57240">
            <a:solidFill>
              <a:srgbClr val="f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7347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sign class diagram – what is it used fo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ngle most important graphical tool in O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design and coding (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n overview over the program to-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you create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oding (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cum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n overview over the program, as it actually wa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you maintain and further develop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dsholder til dias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FCE9-5D77-4118-9AD1-777769ED040A}" type="slidenum">
              <a:rPr b="0" lang="da-DK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 good design class mod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isfy th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asy to mai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ich is xx in the use case mod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ovided by objects of th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classes that represent domain obj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uitively understan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dsholder til dias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881B-E945-46F1-9E8E-4476B20CFB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6" descr=""/>
          <p:cNvPicPr/>
          <p:nvPr/>
        </p:nvPicPr>
        <p:blipFill>
          <a:blip r:embed="rId1"/>
          <a:stretch/>
        </p:blipFill>
        <p:spPr>
          <a:xfrm>
            <a:off x="755640" y="5516640"/>
            <a:ext cx="503280" cy="365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5" descr=""/>
          <p:cNvPicPr/>
          <p:nvPr/>
        </p:nvPicPr>
        <p:blipFill>
          <a:blip r:embed="rId2"/>
          <a:stretch/>
        </p:blipFill>
        <p:spPr>
          <a:xfrm>
            <a:off x="755640" y="5108400"/>
            <a:ext cx="503280" cy="4082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1520" y="2744640"/>
            <a:ext cx="4038840" cy="35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itive data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 notati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sibility name : 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ame : 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dicate publ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dicate protec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68360" y="170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all attributes to be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H="1">
            <a:off x="1186920" y="3789360"/>
            <a:ext cx="2876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1908000" y="3933720"/>
            <a:ext cx="865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 flipH="1">
            <a:off x="2987640" y="393372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4" descr=""/>
          <p:cNvPicPr/>
          <p:nvPr/>
        </p:nvPicPr>
        <p:blipFill>
          <a:blip r:embed="rId3"/>
          <a:stretch/>
        </p:blipFill>
        <p:spPr>
          <a:xfrm>
            <a:off x="784080" y="4363920"/>
            <a:ext cx="503280" cy="365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"/>
          <p:cNvPicPr/>
          <p:nvPr/>
        </p:nvPicPr>
        <p:blipFill>
          <a:blip r:embed="rId4"/>
          <a:stretch/>
        </p:blipFill>
        <p:spPr>
          <a:xfrm>
            <a:off x="5724360" y="2781360"/>
            <a:ext cx="1511640" cy="14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dsholder til dias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AD85-3B78-4A3B-8783-D369232EA01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3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pping from analysis to design to implementation - clas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 rot="5400000">
            <a:off x="-187920" y="239184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 rot="5400000">
            <a:off x="-125640" y="469224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 rot="5400000">
            <a:off x="7440120" y="3877200"/>
            <a:ext cx="27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4284720" y="5661000"/>
            <a:ext cx="503280" cy="0"/>
          </a:xfrm>
          <a:prstGeom prst="line">
            <a:avLst/>
          </a:prstGeom>
          <a:ln w="57240">
            <a:solidFill>
              <a:srgbClr val="f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1692360" y="3789360"/>
            <a:ext cx="0" cy="503280"/>
          </a:xfrm>
          <a:prstGeom prst="line">
            <a:avLst/>
          </a:prstGeom>
          <a:ln w="57240">
            <a:solidFill>
              <a:srgbClr val="f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80000" y="1557360"/>
            <a:ext cx="51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Borr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String 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String adres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String email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Content of the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is identifi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interaction dia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1297080" cy="125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"/>
          <p:cNvPicPr/>
          <p:nvPr/>
        </p:nvPicPr>
        <p:blipFill>
          <a:blip r:embed="rId2"/>
          <a:stretch/>
        </p:blipFill>
        <p:spPr>
          <a:xfrm>
            <a:off x="1187280" y="4686480"/>
            <a:ext cx="151308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16:02:43Z</dcterms:created>
  <dc:creator>Merete Lindemann</dc:creator>
  <dc:description/>
  <dc:language>en-US</dc:language>
  <cp:lastModifiedBy>Caroline Hundahl</cp:lastModifiedBy>
  <dcterms:modified xsi:type="dcterms:W3CDTF">2011-10-07T11:46:24Z</dcterms:modified>
  <cp:revision>118</cp:revision>
  <dc:subject/>
  <dc:title>Navneskift</dc:title>
</cp:coreProperties>
</file>